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809-3C4F-45E6-B865-4A580136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487-D81C-48CE-A900-74E74182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D6C-F028-41B0-B5A6-C342A9CF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211-CF18-4CD4-B683-77239729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F444-43AA-4DBC-B1F7-F1170A5A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D4A9-706A-4174-BF7C-E0352DCB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640A-EBCD-4AE8-8358-43919D35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B80B-8389-4E43-A52B-7B9C4469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DC77-3970-46A6-9352-122D9DE4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199A-BED1-4BCD-96D7-CFFE0BB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20A5-E472-49A7-BD7C-794BB296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136-7EA5-4B65-89F1-171149BA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FC6D-7840-47E4-82B8-27A34AD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CAD2-E8AB-44F8-BA52-6443089F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5D87-0E72-4E74-9C3E-DB1C8557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DF34-2E6D-4576-B931-E770F512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D2AE-773E-4356-949F-C2DA4A0E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16F-FC78-4795-B864-5486CEBC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2E6-1812-4268-9D8E-4D308E83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D5D-9ECB-4A2F-9334-0B973EA6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3A6-6A54-465C-B597-377C2E9F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FB5-5C54-4445-804D-BBCF0C27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A8F-D815-4234-B755-3197755A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DE3-BF66-40DA-A887-C31C265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610F-19AD-480A-8190-9F275F5C9A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EFAF-7BB3-4A85-82A0-583D4788C9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ive Us A K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ted Kingdom – 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am.13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80-8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fter Three Years, Efforts Made To Reconcile David &amp; Absalo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of Te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Help Comes From The Most Unexpected Plac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Was The Reason Absolom Killed Am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Is The Reason For Reconciliation Between David &amp; Abso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324480" y="4114800"/>
            <a:ext cx="113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ko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76520" y="4419720"/>
            <a:ext cx="449568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ble History In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a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mnon Violates His Sister, Tama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600200"/>
            <a:ext cx="6782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y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eems Like “Love” Might Only Be “Lus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am. 13:1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This Situation Have Been Avoi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bsalom, Her Brother, Seeks Vengeance On Amn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ar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force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uch thing should be done in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folly (s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be shamed; you shall be a f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conclu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to the king for he will not withhold me from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bsalom, Her Brother, Seeks Vengeance On Amn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learned of the inc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very upset – but does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non and Absalom did not speak for 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had feast for sheep-shea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his servants kill Am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reaches David; very upset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fled to Geshur for 3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477120" y="1600200"/>
            <a:ext cx="134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eshur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0400" y="2133720"/>
            <a:ext cx="32004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90920" y="2971440"/>
            <a:ext cx="457200" cy="1600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819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alom’s Space Between He And His Father, 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onsequences -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in Grows In Con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is Misery Could Have Been Avo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st Moved To Fornication &amp; R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e Moved To Anger &amp; Hat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red Moves To Venge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geance brought about mu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oken Family For Years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David Is Estranged From Son, Absalo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non Got What Was Co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lom Carried Out “Justice” The Wrong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David Has Lost Two 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Reconciliation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bsolom &amp; David Get Past The Resentments and Bitter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fter Three Years, Efforts Made To Reconcile David &amp; Absalo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concerned about David and Absa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ise woman of Te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went before David with her “supposed”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granted her requ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reminded David of his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consented for Absalom to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speak to each other for 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7:13:59Z</dcterms:created>
  <dc:creator>Terry W. Benton</dc:creator>
  <dc:description/>
  <dc:language>en-US</dc:language>
  <cp:lastModifiedBy>Frank D Vines</cp:lastModifiedBy>
  <dcterms:modified xsi:type="dcterms:W3CDTF">2005-07-07T21:12:32Z</dcterms:modified>
  <cp:revision>7</cp:revision>
  <dc:subject/>
  <dc:title>Give Us A King</dc:title>
</cp:coreProperties>
</file>